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7AEB-2979-44A1-8120-7F894B236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B72E-DE79-4B24-980E-8C263B4F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EBAE-FB5B-4C07-8F73-FB650EEA1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BF39-E442-4D90-9625-085C06CA4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19DC1-2FD1-4538-9267-0295B6E54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27300-3B4B-4838-9632-065F775F1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70440-1F98-480C-9A81-5CB5928EE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D41D7-870B-47B9-B70E-4B9C7FD59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918A6-FD29-480C-82C3-949866F732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178F1-65B3-4A43-86CB-61E9986D40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D6E4-228B-40CB-AA17-479567AF0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D94BD-A8F3-45EB-B3CB-19D701E05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9B2B9-B22F-46E8-8680-E4B2BB08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4B9BE-1711-47CB-BBC8-1B5B0FB48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6FA66-FDDA-4EED-8223-9D90A042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EDDCB-9224-44B4-B67C-E296DB469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3FDFD-7FAD-48DA-949A-FBBEE6D20A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D317E3-FB3F-4613-ADDC-50F5C8EA6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60E2C-275D-4260-ACB6-F21C32D01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0A31CA-C140-45F9-A31E-35A5D1B76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33AFC-CF7C-4AAF-B379-926C1CA1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51EE9-095E-4159-93E0-74F45579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2487C-47A0-47D0-86D4-E8AA37E84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483687-1F43-4DCA-B77D-25FCB26C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F3FAC8-4319-4470-91C2-062E9927A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20D24-855C-43E2-8B03-CB55E34D1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52E2E7-FA26-4BF8-A6C6-2380F3286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CB27B0-5686-40EC-A31C-FF9E2480C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86890E-D266-4A7C-8B9B-3D06FCFD2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575C07-17FD-4C38-AAD2-C65202BE4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0256-3883-43A8-BF92-2D8A95DD9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477063-0F49-4276-9EF7-DB4C4273F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D31C2E-BF5B-4BC6-A90D-DBE766B4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4CB3B-3585-41B1-85D1-259A3B55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9D84A-0D4C-4AE9-9D99-8D4351596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8166F-86C5-45F8-8BBD-43F9129E4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2EF74-55EB-4204-8D8F-64F835942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076FF-0C0B-487B-989E-B3A4CA696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E4248B-4DFC-41ED-822B-0E7AFCA9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84250-5B0D-4198-B3DF-FD7333AA7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CC2A48-A3A2-453B-B711-7414D67D1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66FA7-A032-49CF-93F5-493DC862F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6592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74280" y="182844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6592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74280" y="4057200"/>
            <a:ext cx="26744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ADB266-307C-4EB3-A6C0-50AEE14D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187B-32BE-466C-93F2-3E74D2110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67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42EE-A594-4CB3-BACD-0AC92BAF2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247D-EED0-4B91-BBAF-3CF419886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713480" y="405720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5290-B27C-4E0E-88EA-6FF717124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13480" y="1828440"/>
            <a:ext cx="405324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4057200"/>
            <a:ext cx="8305920" cy="203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7E50-4C3D-4DF7-8EFC-1B502C0B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304920"/>
            <a:ext cx="8305920" cy="1295280"/>
            <a:chOff x="457200" y="304920"/>
            <a:chExt cx="8305920" cy="1295280"/>
          </a:xfrm>
        </p:grpSpPr>
        <p:sp>
          <p:nvSpPr>
            <p:cNvPr id="1" name=""/>
            <p:cNvSpPr/>
            <p:nvPr/>
          </p:nvSpPr>
          <p:spPr>
            <a:xfrm>
              <a:off x="457200" y="3049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501480" y="3430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3960" y="3888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14240" y="5428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647640" y="10663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bad41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2590560" y="63244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477120" y="632448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9EA5-A625-4FBD-99C4-0862F5C5B064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152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2133720" y="6248520"/>
            <a:ext cx="487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b87f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04469-0BA7-42AE-8188-364888781FDE}" type="slidenum">
              <a:rPr b="0" lang="en-US" sz="1400" spc="-1" strike="noStrike">
                <a:solidFill>
                  <a:srgbClr val="5b87f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457200" y="2362320"/>
            <a:ext cx="8305920" cy="1295280"/>
            <a:chOff x="457200" y="2362320"/>
            <a:chExt cx="8305920" cy="1295280"/>
          </a:xfrm>
        </p:grpSpPr>
        <p:sp>
          <p:nvSpPr>
            <p:cNvPr id="51" name=""/>
            <p:cNvSpPr/>
            <p:nvPr/>
          </p:nvSpPr>
          <p:spPr>
            <a:xfrm>
              <a:off x="457200" y="2362320"/>
              <a:ext cx="8305920" cy="12952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5b87f2"/>
                </a:gs>
                <a:gs pos="100000">
                  <a:srgbClr val="243560"/>
                </a:gs>
              </a:gsLst>
              <a:lin ang="5400000"/>
            </a:gradFill>
            <a:ln w="0">
              <a:noFill/>
            </a:ln>
            <a:effectLst>
              <a:outerShdw dist="115171" dir="5023148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1480" y="2400480"/>
              <a:ext cx="8209080" cy="119376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93e6f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3960" y="2446200"/>
              <a:ext cx="7772400" cy="19692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8aa9f4"/>
                </a:gs>
                <a:gs pos="100000">
                  <a:srgbClr val="5b87f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14240" y="2600280"/>
              <a:ext cx="7782120" cy="155520"/>
            </a:xfrm>
            <a:custGeom>
              <a:avLst/>
              <a:gdLst/>
              <a:ahLst/>
              <a:rect l="l" t="t" r="r" b="b"/>
              <a:pathLst>
                <a:path w="4902" h="98">
                  <a:moveTo>
                    <a:pt x="6" y="0"/>
                  </a:moveTo>
                  <a:cubicBezTo>
                    <a:pt x="0" y="72"/>
                    <a:pt x="45" y="97"/>
                    <a:pt x="136" y="98"/>
                  </a:cubicBezTo>
                  <a:lnTo>
                    <a:pt x="4770" y="84"/>
                  </a:lnTo>
                  <a:cubicBezTo>
                    <a:pt x="4857" y="80"/>
                    <a:pt x="4897" y="65"/>
                    <a:pt x="4902" y="6"/>
                  </a:cubicBezTo>
                  <a:lnTo>
                    <a:pt x="6" y="0"/>
                  </a:ln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354f8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647640" y="3123720"/>
              <a:ext cx="7920000" cy="457200"/>
            </a:xfrm>
            <a:custGeom>
              <a:avLst/>
              <a:gdLst/>
              <a:ahLst/>
              <a:rect l="l" t="t" r="r" b="b"/>
              <a:pathLst>
                <a:path w="4952" h="166">
                  <a:moveTo>
                    <a:pt x="0" y="139"/>
                  </a:moveTo>
                  <a:cubicBezTo>
                    <a:pt x="28" y="55"/>
                    <a:pt x="152" y="2"/>
                    <a:pt x="244" y="0"/>
                  </a:cubicBezTo>
                  <a:lnTo>
                    <a:pt x="4712" y="0"/>
                  </a:lnTo>
                  <a:cubicBezTo>
                    <a:pt x="4800" y="8"/>
                    <a:pt x="4944" y="62"/>
                    <a:pt x="4952" y="144"/>
                  </a:cubicBezTo>
                  <a:cubicBezTo>
                    <a:pt x="4167" y="166"/>
                    <a:pt x="0" y="139"/>
                    <a:pt x="0" y="139"/>
                  </a:cubicBezTo>
                  <a:close/>
                </a:path>
              </a:pathLst>
            </a:custGeom>
            <a:gradFill rotWithShape="0">
              <a:gsLst>
                <a:gs pos="0">
                  <a:srgbClr val="5b87f2"/>
                </a:gs>
                <a:gs pos="100000">
                  <a:srgbClr val="779bf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55555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bad41a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21DE-21A0-46CC-B6D1-B518A7E2F8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Osak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7C545-89BB-4A04-B10B-66EF20EE48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43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Work in A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troduction to Web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trick A. Lightbod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Servlet contain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thing starts with the FilterDispatc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terDispatcher is responsible fo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ing 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ng static content (AJAX-related fi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inversion of control “request” sco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ning up the ActionContext (ThreadLoc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eb.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il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ilter-name&gt;webwork&lt;/filter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ilter-class&gt;….FilterDispatcher&lt;/filter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fil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ilter-mappin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ilter-name&gt;webwork&lt;/filter-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url-pattern&gt;/*&lt;/url-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filter-mapping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listen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listener-class&gt;….LifecycleListener&lt;/listener-class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/listen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Prototype”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the quickest way to ge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inspired by AppFuse, Ruby on R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powered by a built-in Jetty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ally compiles your source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s your started in three step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zip webwork-2.2.z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 -R webapps/starter webapps/java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-jar launcher.jar prototype:javaz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work.xm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for actions, results, and intercep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for packages and package inherit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onal mapping to namesp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files can be included using &lt;include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xwork.xml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xwork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include file="webwork-default.xml"/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package name="defaul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ends="webwork-default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ction name="listPeople" class="ListPeople"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result&gt;listPeople.ftl&lt;/resul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ac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packag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xwork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ue stac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expressions work against the value st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s are pushed on the stack before anything else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ditional objects, such as those in an interator or action chaining, can be pushed dow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7925040" cy="682776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8083440" y="5148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 convers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 is not aware of data type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Java i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bWork helps by letting you work with your raw POJOs rather than typeless intermediate objects (form bean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lps with simple conversion (primitives) as well as complex (POJOs and collection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624120" y="-42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ype conversion exampl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 -&gt; 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name=“id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[] -&gt; List&lt;String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name=“name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x 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name=“person.id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name=“people[0].id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&lt;input name=“person.friends.name”/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tracts validation rules from cor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on rules available (required, regex, date range, et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mes rules work with client-side validation (using AJAX -- see my other presentation for more inf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bWork: an OpenSymphon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WebWork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 OpenSymphony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o is Patrick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arison to other web frame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S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Template librar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tform to create reusable UI widg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 controls provided out of the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ups of templates form “theme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“xhtml” theme is simple two-column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mes can extend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ax -&gt; xhtml -&gt;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3508200" cy="4191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2666880" y="3809880"/>
            <a:ext cx="6248520" cy="265608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4419720" y="762120"/>
            <a:ext cx="419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he xhtml theme extends the simple theme and provides a standard two-column layout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s of interceptor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vide very core features for WebWor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ying HTTP request para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ing 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oking the valid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so provide advanced functional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dvanced featur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tion ch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ts you glue together smaller actions to form more complex workflo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eateUser -&gt; Log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tomatic “wait”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reat for complex search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double click problems (without relying on JavaScript!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rapping u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otype is a great way to get star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 the templates; create your own the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ype conversion bridges the gap between HTTP and Ja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 the validation framework (especially with AJA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ilize interceptors when appropri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486400" y="304920"/>
            <a:ext cx="327672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Book now avail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nt version ready “any day now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k questions - get a free cop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468144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ow” exampl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tting started has never been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nstration of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version of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late libr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verview: WebWork…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built upon the Command Patter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with PO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s OGNL for expression language and type con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s an advanced validation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cludes an extensible widge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many view technologies: JSP, FreeMarker, Velocity, JasperReports, XSLT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ore concep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key piec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ons (POJOs, Action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ce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“form beans”: the action is the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lue stack allows loose coup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ceptors: “AOP lite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326880" y="263520"/>
            <a:ext cx="849636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67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Getting start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3059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op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rd servlet (2.3)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“prototype” quick sta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ad41a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th methods are compa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55555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 in “prototype” and deploy in a standard servlet 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19T15:00:05Z</dcterms:created>
  <dc:creator>Patrick Lightbody</dc:creator>
  <dc:description/>
  <dc:language>en-US</dc:language>
  <cp:lastModifiedBy>Patrick Lightbody</cp:lastModifiedBy>
  <dcterms:modified xsi:type="dcterms:W3CDTF">2005-09-14T06:05:45Z</dcterms:modified>
  <cp:revision>12</cp:revision>
  <dc:subject/>
  <dc:title>WebWork in Action</dc:title>
</cp:coreProperties>
</file>