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0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735F3E-2501-4AC3-ADC7-4A6174FA57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D13A-F998-41C5-9B44-C0B48C494F5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75967-13A2-4701-B573-E5BE5C515E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371A1-7942-477A-949C-1A0D415BEA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B39B6-4CE6-4B20-A428-883A964E6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B5926-2485-4239-874D-28F5A41B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BC1308-57EE-42A4-AAD3-F4EDE508E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B0E810-CCFB-4782-8DC8-63284374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61DD362-DB1A-4370-9892-03706574F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AA7874-5255-42EF-8E6E-1A7FD20D6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62C361-78A2-4C49-876A-CA3F670D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4926E9-C71B-4A3E-9385-2925011BC3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72189-AAF4-4D42-8C8F-0D1866F89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79B560-1C8D-419E-9407-DB43F8A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26006B-8AC7-4919-8093-37F27B02D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66CAD2-9B92-4FD7-923A-D5D519772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15AE81-A29E-4AF1-ADC4-CA1A32D17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D8450-9E2C-4D63-855A-A1F175FBD5F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065155-A40E-4BF1-B385-D5D4C5693F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D672D-AC28-4CED-8875-292E58C4C1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8A5B3-BD57-41E5-AE20-F27F6A42DD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2AD160-8BA9-4DCB-A339-3286508102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9E0C3-80CD-4D3C-B1DF-E4E4CD4A288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0B09D8-891C-432F-A2AC-F05EA6CC09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4F91-C2E5-409A-8C3C-9C9772E08E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0084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100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2" marL="1131480" indent="-226080">
              <a:spcBef>
                <a:spcPts val="799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4" marL="2036520" indent="-226080">
              <a:spcBef>
                <a:spcPts val="799"/>
              </a:spcBef>
              <a:buClr>
                <a:srgbClr val="10084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609480" y="6095880"/>
            <a:ext cx="1676520" cy="54288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3"/>
          <a:stretch/>
        </p:blipFill>
        <p:spPr>
          <a:xfrm>
            <a:off x="6172200" y="6248520"/>
            <a:ext cx="2819520" cy="4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1008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1008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10084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E115D-8233-4139-B93E-6ECAFEC8FE1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7FBE-E6C5-4397-91AF-792124EF81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2" marL="914400" algn="ctr">
              <a:spcBef>
                <a:spcPts val="60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4" marL="1828800" algn="ctr">
              <a:spcBef>
                <a:spcPts val="499"/>
              </a:spcBef>
              <a:buClr>
                <a:srgbClr val="10084a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opensymphony.com/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Lucida Sans"/>
              </a:rPr>
              <a:t>WebWork </a:t>
            </a:r>
            <a:r>
              <a:rPr b="1" lang="en-US" sz="5000" spc="-1" strike="noStrike">
                <a:solidFill>
                  <a:srgbClr val="ffffff"/>
                </a:solidFill>
                <a:latin typeface="Lucida Sans"/>
              </a:rPr>
              <a:t>2.0</a:t>
            </a:r>
            <a:endParaRPr b="0" lang="en-US" sz="50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Lucida Sans"/>
              </a:rPr>
              <a:t>Strutting the OpenSymphony Way</a:t>
            </a:r>
            <a:endParaRPr b="0" lang="en-US" sz="3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733920" y="152280"/>
            <a:ext cx="5276880" cy="13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“Hello World” examp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ple requirem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ake the users name and generate a hello message personalized for them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f the user enters a birthday, calculate how long until their birthday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how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mplementing an A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Configuring WebWor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Using the taglib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ype conver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Error messag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elloWorldAction.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class HelloWorldAction extends ActionSupport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rivate User user = new User(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User getUser() { return user; 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int getDaysTillNextBirthday() { … 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ublic String execute() throws Exception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tring name = getUser().getName(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f ((name == null) || (name.trim().equals(""))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addFieldError("user.name", "You must enter a name."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f (hasErrors()) {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turn INPU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turn SUCCESS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ser.java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class User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vate String name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ivate Date birthday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String getName() { return name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void setName(String name) { this.name = name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Date getBirthday() { return birthday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void setBirthday(Date birthday) { this.birthday = birthday; 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form.jsp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%@ taglib uri= "webwork" prefix= "webwork" %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ead&gt;&lt;title&gt;Hello World Example&lt;/title&gt;&lt;/head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form action="'HelloWorld.action'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textfield label="'Name'" name="'user.name'“ value="user.name"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textfield label="'Birthday'" name="'user.birthday'" value="user.birthday"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submit value="'Say Hello'"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webwork:form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success.jsp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%@ taglib uri= "webwork" prefix= "webwork" %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head&gt;&lt;title&gt;Hello &lt;webwork:property value="user.name"/&gt;&lt;/title&gt;&lt;/head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ello &lt;webwork:property value="user.name"/&gt;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if test="user.birthday != null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property value="daysTillNextBirthday"/&gt; days till your next birthday.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webwork:if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Xwork.xml for Hello World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xwork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clude file="webwork-default.xml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default" extends="webwork-default" abstract="true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main" class="com.opensymphony.xwork.ActionSupport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field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ex1" extends="default" namespace="/ex1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HelloWorld" class="example.ex1.HelloWorldAction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field/success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input" type="dispatcher"&gt;/field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xwork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nit testing Action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XWork / WebWork shines in testabilit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have no web dependencies, so you don’t have to set up mocks, etc.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ways of testing Action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st create a new instance, set some properties, and execu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35480" indent="-28296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se the framework directly in your tests to execute it with the Interceptors, 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elloWorldActionTes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public void testFieldErrorAddedWhenNoUserName(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throws Exception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HelloWorldAction action = new HelloWorldAction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Equals(Action.INPUT, action.execute(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True(action.hasFieldErrors(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Map fieldErrors = action.getFieldErrors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True(fieldErrors.containsKey("user.name"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ist userNameErrors = (List) fieldErrors.get("user.name"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Equals(1, userNameErrors.size(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assertEquals("You must enter a name.",userNameErrors.get(0)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Notes on the exampl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ompose page model from many objects using expression languag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UI tags automatically show field error messages next to the form fiel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turn code from Action determines which page to displ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uch of the “magic” is in the interceptors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terceptors: Domain AOP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533520" y="1752480"/>
          <a:ext cx="287640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752480"/>
                    <a:ext cx="287640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9520" y="1752480"/>
            <a:ext cx="4876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rceptors allow custom code into the call 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uch of the core functionality of XWork and WebWork is implemented as Intercepto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 custom Intercepto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What i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OpenSymphony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n open source project encompassing quality enterprise Java compon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Many well known quality compon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bWork / XWor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teMesh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SCache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SUser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OSWorkflow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Quartz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http://www.opensymphony.com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1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838080"/>
            <a:ext cx="3038400" cy="67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imerInterceptor</a:t>
            </a: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imerInterceptor is the simplest Intercepto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ust times the execution of the A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public String intercept(ActionInvocation invocation) throws Exception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if (log.isInfoEnabled())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ong startTime = System.currentTimeMillis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String result = invocation.invoke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long executionTime = System.currentTimeMillis() - startTime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String namespace = invocation.getProxy().getNamespace()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…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LoggingInterceptor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LoggingInterceptor extends the Around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roundInterceptor provides callbacks for before() and after() the Action is execu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class LoggingInterceptor extends AroundInterceptor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otected void after(ActionInvocation invocation, String result) throws Exception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logMessage(invocation, FINISH_MESSAGE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rotected void before(ActionInvocation invocation) throws Exception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logMessage(invocation, START_MESSAGE)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ther Intercepto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tting Paramet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arameter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taticParameter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haining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versionError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fining Workflow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DefaultWorkflow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repare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rvletConfig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eventing duplicate pos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 types of token intercep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nterceptor Stack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terceptors can be grouped into named Interceptor Stack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2 defined in webwork-default.xm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defaultSt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stack name="defaultStack"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static-params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params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conversionError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interceptor-stack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alidationWorkflowStack           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stack name="validationWorkflowStack"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validation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interceptor-ref name="workflow"/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&lt;/interceptor-stack&gt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tacks can be built of other stacks and interceptor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odel-Driven vs. Field-Drive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2 types of Actions possible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Model-driv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tion has methods returning your model classes (myAction.getUser()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elds in the view are fields of your mod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iews refer directly to your model (property=‘user.name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cellent because it allows model reuse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914400" indent="-45720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Field-drive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Action has fields of its own, which are fields in the view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execute() collates fields and interacts with the mod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Views refer to action fields (property=‘daysTillNextBirthday’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295280" indent="-38088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seful where form is not parallel to model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s we can see in our Action, the two can be mix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ModelDriven Interfa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Work / WebWork also supports model-driven Actions more directl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ModelDriven Interface has one method: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public Object getModel(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perties of the model will be directly available, i.e. “name” instead of “user.name”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pplies to UI tags, form field names, 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aking HelloWorld ModelDriven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Make the class implement ModelDrive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nge getUser() to getModel(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class HelloWorldAction extends ActionSupport 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implements ModelDriven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public Object 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getModel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() {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return user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ModelDriven: Changes to the JSP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nge “user.name”, etc. to just “name”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 form.js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textfield label="'Name'" name="'name'" value="name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textfield label="'Birthday'" name="'birthday'" value="birthday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In success.jsp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Hello &lt;webwork:property value="name"/&gt;!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if test="birthday != null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property value="daysTillNextBirthday"/&gt; days till your next birthday.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webwork:if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pplying the ModelDrivenIntercep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 xwork.xm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ex2" extends="webwork-default" namespace="/ex2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main" class="com.opensymphony.xwork.ActionSupport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model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HelloWorld" class="example.ex2.HelloWorldAction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&lt;interceptor-ref name="model-driven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/model/success.jsp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input" type="dispatcher"&gt;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/model/form.jsp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Looking at the ModelInterceptor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2514600" y="1752480"/>
          <a:ext cx="4378320" cy="280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4600" y="1752480"/>
                    <a:ext cx="4378320" cy="280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4876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ModelInterceptor pushes the Model onto the ValueStac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is WebWork 2.0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The second generation of WebWor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web MVC framework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wrapper on top of a generic Command Pattern implementation (XWork)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 small but powerful tag librar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is the ValueStack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ValueStack builds a stack of objec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Objects are used to find property valu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ValueStack allows the expression language to find property values across multiple objec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5486400" y="1371600"/>
          <a:ext cx="2581200" cy="449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1371600"/>
                    <a:ext cx="25812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How is the ValueStack used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Action instance is always pushed onto the ValueStac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Model is pushed on by the ModelIntercepto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 UI tags use it to push values on during their scope and evaluate express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&lt;ww:iterator&gt; tag pushes the current item onto the st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&lt;ww:bean&gt; tag pushes a bean instance 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The &lt;ww:property&gt; tag evaluates an expression against the ValueStack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tag attribute values are evaluated against the stack when being set onto the tag instances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OGNL expression langu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For expressions WW uses OGNL (Object Graph Navigation Language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n expression and binding language for getting and setting properties of Java objec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Normally the same expression is used for both getting and setting the value of a property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asy to learn, yet powerfu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crementally compiled expressions - fast!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mbedded everywhere – views, ValueStack, *.xm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dependently run Open Source project - http://www.ognl.org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OGNL sampl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1676520"/>
          <a:ext cx="8229600" cy="4144680"/>
        </p:xfrm>
        <a:graphic>
          <a:graphicData uri="http://schemas.openxmlformats.org/drawingml/2006/table">
            <a:tbl>
              <a:tblPr/>
              <a:tblGrid>
                <a:gridCol w="3124080"/>
                <a:gridCol w="5105520"/>
              </a:tblGrid>
              <a:tr h="679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OGN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sul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ser.na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getUser().getName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ser.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getUser().toString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tem.categories[0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rst element of Categories collec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@com.example.Test@foo(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lls the static foo() method on the com.example.Test 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name in {null,”fred”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True if name is null or “fred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tegories.{name}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Calls getName() on each Category in the collection, returning a new collection (projectio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The XWork Validation Framewor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Separates validation from Action cla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llows for different validations in different contexts for the same objec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Provides hooks for localized validation messag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2 types of validators, Object level and field level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elloWorldAction-validation.xm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validators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field name="user.name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field-validator type="requiredstring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message&gt;You must enter a name.&lt;/message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field-validator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field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validators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alidation file in the same package as the cla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fines one field validator and the error message to add if it fail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Bundled Validator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457200" y="1752480"/>
          <a:ext cx="8229600" cy="4270320"/>
        </p:xfrm>
        <a:graphic>
          <a:graphicData uri="http://schemas.openxmlformats.org/drawingml/2006/table">
            <a:tbl>
              <a:tblPr/>
              <a:tblGrid>
                <a:gridCol w="2116080"/>
                <a:gridCol w="61135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at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sul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e6"/>
                    </a:solidFill>
                  </a:tcPr>
                </a:tc>
              </a:tr>
              <a:tr h="405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quired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 != nu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RequiredStr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 != null &amp;&amp; string.length() &gt; 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nt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Integer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Date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Date in a given 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ma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 emai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7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UR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Valid URL fiel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xpression /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FieldExpress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Any OGNL expression evaluates to tr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eg. pet.name != “dog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Monaco"/>
                        </a:rPr>
                        <a:t>Allows you to create very powerful validations using just XML and your existing mode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hanges to xwork.xml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package name="ex3" extends="default" namespace="/ex3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action name="HelloWorld" class="example.ex3.HelloWorldAction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</a:t>
            </a:r>
            <a:r>
              <a:rPr b="0" lang="en-US" sz="1800" spc="-1" strike="noStrike">
                <a:solidFill>
                  <a:srgbClr val="ff0000"/>
                </a:solidFill>
                <a:latin typeface="Monaco"/>
              </a:rPr>
              <a:t>validationWorkflowStack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success" type="dispatcher"&gt;/field/success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result name="input" type="dispatcher"&gt;/field/form.jsp&lt;/resul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action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packag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alidationWorkflowStack is from webwork-default.xml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stack name="validationWorkflowStack"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defaultStack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validation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interceptor-ref name="workflow"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interceptor-stack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hanges to the Ac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execute() method can just return SUCCES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public String execute() throws Exception { return SUCCESS; 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validation of the “user.name” property is handled by the validation intercepto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workflow interceptor returns INPUT if there are any errors added to the A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is Inversion of Control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oC removes the onus of managing components from your business logic into a container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ntainer manages lifecycles and dependencies between components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JB is IoC, but with a static list of servic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ecurity, persistence and transaction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Jakarta Avalon, Spring’s BeanFactory, and PicoContainer are all IoC container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How does WebWork use XWork?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Work is a generic command pattern implemen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bWork translates between the web world and XWork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5565600" y="1754280"/>
          <a:ext cx="2203560" cy="411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65600" y="1754280"/>
                    <a:ext cx="2203560" cy="411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dvantages of Io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Promotes simplicity and decoupling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mponents describe themselv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Dependencies are discovered automatically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heres to Law of Demet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lasses coupled to only what they us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ncourages smaller responsibility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Leads to better interface/impl separ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Unit tests become far simpl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y become ‘mini-containers’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IoC in XWork / WebWork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XWork provides a simple IoC contain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WebWork provides a hierarchy of containers mapped to web scopes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Sess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Reques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Lucida San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XWork A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mponents specify only which services they requir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838080" indent="-38088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via interfaces (eg ShoppingCartAware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onfiguration file defines component implementations and scopes.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ShoppingCart Servi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ShoppingCart service - provides a user’s cart (session scop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ppingCartAware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interface ShoppingCartAware 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setShoppingCart(ShoppingCart cart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ShoppingCart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interface ShoppingCart 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addPet(Pet pet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void removePet(Pet pet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boolean isEmpty(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int size(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ublic List getPets(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PetStore Servi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 PetStore service - provides management of our pet inventory (application scoped)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tStoreAware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etStoreAware {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etPetStore(PetStore store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Lucida Sans"/>
              </a:rPr>
              <a:t>PetStore.java: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public interface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Store {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808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savePet(Pet pet);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void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removePet(Pet pet);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List getPets(); 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Pet getPet( </a:t>
            </a:r>
            <a:r>
              <a:rPr b="0" lang="en-US" sz="1400" spc="-1" strike="noStrike">
                <a:solidFill>
                  <a:srgbClr val="000080"/>
                </a:solidFill>
                <a:latin typeface="Monaco"/>
              </a:rPr>
              <a:t>long </a:t>
            </a: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id);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Monaco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 service client Ac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clas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ddToCart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implement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Action,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PetStoreAware, ShoppingCartAware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{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. . .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setPetStore(PetStore ps) { this.petStore = ps; 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public void 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setShoppingCart(ShoppingCart c) { </a:t>
            </a:r>
            <a:r>
              <a:rPr b="1" lang="en-US" sz="1600" spc="-1" strike="noStrike">
                <a:solidFill>
                  <a:srgbClr val="000080"/>
                </a:solidFill>
                <a:latin typeface="Monaco"/>
              </a:rPr>
              <a:t>this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.cart = c; 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public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tring execute()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throws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xception {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if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(cart == 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null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|| petId ==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0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ERROR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Pet pet = petStore.getPet(petId);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Monaco"/>
              </a:rPr>
              <a:t>cart.addPet(pet);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80"/>
                </a:solidFill>
                <a:latin typeface="Monaco"/>
              </a:rPr>
              <a:t>return 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SUCCESS;   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Monaco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onfiguring Servic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These services are configured in components.xml like so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omponents&gt;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scope&gt;application&lt;/scop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lass&gt;org.petsoar.pets.DefaultPetStore&lt;/class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enabler&gt;org.petsoar.pets.PetStoreAware&lt;/enabler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scope&gt;session&lt;/scope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class&gt;org.petsoar.cart.SimpleShoppingCart&lt;/class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enabler&gt;org.petsoar.cart.ShoppingCartAware&lt;/enabler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/components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chieving reuse with WebWork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WebWork provides many opportunities for modularizing and reusing component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ake Interceptors to do work before and after the Action is executed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services which are applied via IoC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Action base class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reusable UI componen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Create reusable application module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usable UI component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WebWork UI tags are implemented using Velocity templat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You can provide your own templates for the tag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e &lt;ww:component&gt; tag lets you use any templat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ampl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 date picker templ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Error message templat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I tag rendering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UI tags use Velocity to actually render HTML fragments, eg in your JSP view: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textfield label="Name" name="project.name" /&gt;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nders via textfield.vm: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header.vm" 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input type="text" name="${tag.Name}"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value="$!{tag.ActualValue}"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if ($tag.Size &gt; 0) size="${tag.Size}"#end /&gt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footer.vm" 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UI tag template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ebWork comes with default UI templat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how the label beside the form fiel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how the field errors above the form field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&lt;webwork:textfield </a:t>
            </a:r>
            <a:r>
              <a:rPr b="0" lang="en-US" sz="1800" spc="-1" strike="noStrike">
                <a:solidFill>
                  <a:srgbClr val="009900"/>
                </a:solidFill>
                <a:latin typeface="Monaco"/>
              </a:rPr>
              <a:t>label=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"'Name'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Monaco"/>
              </a:rPr>
              <a:t>name=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"'user.name'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 </a:t>
            </a:r>
            <a:r>
              <a:rPr b="0" lang="en-US" sz="1800" spc="-1" strike="noStrike">
                <a:solidFill>
                  <a:srgbClr val="009900"/>
                </a:solidFill>
                <a:latin typeface="Monaco"/>
              </a:rPr>
              <a:t>value=</a:t>
            </a:r>
            <a:r>
              <a:rPr b="0" lang="en-US" sz="1800" spc="-1" strike="noStrike">
                <a:solidFill>
                  <a:srgbClr val="0000ff"/>
                </a:solidFill>
                <a:latin typeface="Monaco"/>
              </a:rPr>
              <a:t>"user.name"</a:t>
            </a:r>
            <a:r>
              <a:rPr b="0" lang="en-US" sz="1800" spc="-1" strike="noStrike">
                <a:solidFill>
                  <a:srgbClr val="000000"/>
                </a:solidFill>
                <a:latin typeface="Monaco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nders as (with an error message)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124080" y="5105520"/>
            <a:ext cx="2667240" cy="6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does XWork provide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mmand pattern implement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tions are command objects in XWork 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s advanced featur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Interceptor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cludes setting parameters, workflow, etc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Result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ncludes one for chaining to another Action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Simple IoC (or “Dependency Injection) container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Powerful expression language – OGNL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Flexible type conversion 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Metadata driven validation framework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Custom UI component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WW allows you to easily create custom UI componen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quires writing a single Velocity template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cellent for componentizing view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Example: a date picker to allow users to enter dates into text fields easily…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 custom date picker (from Jira)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Here’s the  form field and popup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5638680" cy="5540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2819520" y="3124080"/>
            <a:ext cx="3133440" cy="3429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6705720" y="2590920"/>
            <a:ext cx="1218960" cy="2057400"/>
          </a:xfrm>
          <a:custGeom>
            <a:avLst/>
            <a:gdLst>
              <a:gd name="textAreaLeft" fmla="*/ 163080 w 1218960"/>
              <a:gd name="textAreaRight" fmla="*/ 1055880 w 1218960"/>
              <a:gd name="textAreaTop" fmla="*/ 392400 h 2057400"/>
              <a:gd name="textAreaBottom" fmla="*/ 14594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238" stAng="-5400000" swAng="5400000"/>
                <a:lnTo>
                  <a:pt x="21600" y="11202"/>
                </a:lnTo>
                <a:arcTo wR="21600" hR="8238" stAng="0" swAng="3172593"/>
                <a:lnTo>
                  <a:pt x="5991" y="21277"/>
                </a:lnTo>
                <a:lnTo>
                  <a:pt x="0" y="17958"/>
                </a:lnTo>
                <a:lnTo>
                  <a:pt x="5991" y="13993"/>
                </a:lnTo>
                <a:lnTo>
                  <a:pt x="5991" y="16153"/>
                </a:lnTo>
                <a:arcTo wR="21600" hR="8238" stAng="3172593" swAng="-2933201"/>
                <a:lnTo>
                  <a:pt x="21248" y="9720"/>
                </a:lnTo>
                <a:arcTo wR="21600" hR="8238" stAng="-239392" swAng="-5160608"/>
                <a:close/>
              </a:path>
              <a:path fill="darkenLess" w="21600" h="21600">
                <a:moveTo>
                  <a:pt x="0" y="0"/>
                </a:moveTo>
                <a:arcTo wR="21600" hR="8238" stAng="-5400000" swAng="5400000"/>
                <a:lnTo>
                  <a:pt x="21600" y="11202"/>
                </a:lnTo>
                <a:arcTo wR="21600" hR="8238" stAng="0" swAng="-239392"/>
                <a:lnTo>
                  <a:pt x="21248" y="9720"/>
                </a:lnTo>
                <a:arcTo wR="21600" hR="8238" stAng="-239392" swAng="-5160608"/>
                <a:close/>
              </a:path>
            </a:pathLst>
          </a:custGeom>
          <a:solidFill>
            <a:srgbClr val="ffffcc"/>
          </a:solidFill>
          <a:ln w="28440">
            <a:solidFill>
              <a:srgbClr val="164a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Using the custom UI component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iew (addpet.jsp):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component label="Created After" template="datepicker.vm" name="pet.created"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webwork:param name="'formname'" value="'editform'" 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/webwork:component&gt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Component template (datepicker.vm)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header.vm" )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script language="JavaScript" src="/decorators/datepicker.js" /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input type="text" name="${tag.Name}" value="$!{tag.ActualValue}" /&gt;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&lt;a href="javascript:show_calendar('${tag.Params.get("formname")}', '${tag.Name }');"&gt;&lt;img src="/images/icons/cal.gif"&gt;&lt;/a&gt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#parse( "/decorators/xhtml/controlfooter.vm" )</a:t>
            </a: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marL="325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Reusable application modul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You can build reusable modules which can be included in any WebWork app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Xwork.xml include allows you to merge in external configura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Velocity allows you to include both Actions and templates in a jar fil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xample: The WebWork configuration browser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Adding the Config Browser to your WebWork app</a:t>
            </a:r>
            <a:r>
              <a:rPr b="0" lang="en-US" sz="4000" spc="-1" strike="noStrike">
                <a:solidFill>
                  <a:srgbClr val="000000"/>
                </a:solidFill>
                <a:latin typeface="Lucida San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 the webwork-config-browser.jar (12 Kb) to your WEB-INF/lib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d an include in your xwork.xml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xwork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include file="webwork-default.xml"/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include file="config-browser.xml"/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   …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&lt;/xwork&gt;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That’s it!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The Config Browser in action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1523880" y="1576440"/>
            <a:ext cx="5791320" cy="44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What does WebWork add?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Adapter for HTTP request / response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Integration of Session / Application scopes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ServletDispatcher translates HTTP requests into Action execu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quest parameters passed to Action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Results for servlet redirect &amp; dispatch, Velocity, Freemarker, JasperReports, XSLT, etc.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Results: The “View” in MVC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Results are what happens after an 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Displaying a page -&gt; JSP / Velocity / FreeMarker / JasperReports / XSLT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Chaining to another Actio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dd your own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Sans"/>
              </a:rPr>
              <a:t>Email? Command line output?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ctions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are command object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should be simple!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s are not tied to any web classes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cida Sans"/>
              </a:rPr>
              <a:t>Action interface has only one method: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interface Action {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	</a:t>
            </a: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String </a:t>
            </a:r>
            <a:r>
              <a:rPr b="0" lang="en-US" sz="2000" spc="-1" strike="noStrike">
                <a:solidFill>
                  <a:srgbClr val="000000"/>
                </a:solidFill>
                <a:latin typeface="Monaco"/>
              </a:rPr>
              <a:t>execute() </a:t>
            </a:r>
            <a:r>
              <a:rPr b="0" lang="en-US" sz="2000" spc="-1" strike="noStrike">
                <a:solidFill>
                  <a:srgbClr val="000080"/>
                </a:solidFill>
                <a:latin typeface="Monaco"/>
              </a:rPr>
              <a:t>throws Exception;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80"/>
                </a:solidFill>
                <a:latin typeface="Helvetica-Bold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cida Sans"/>
              </a:rPr>
              <a:t>ActionSupport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tions are only required to implement the Action interface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Lucida Sans"/>
              </a:rPr>
              <a:t>ActionSupport is a useful base class</a:t>
            </a:r>
            <a:endParaRPr b="0" lang="en-US" sz="24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Implements Ac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vides error message support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Field and Action level messag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essages automatically used by UI tag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Provides message internationalization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Message bundle for each Action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Looks up class hierarchy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10084a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Lucida Sans"/>
              </a:rPr>
              <a:t>UI tags use internationalization support to find text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Sans"/>
              </a:rPr>
              <a:t>All features based on Interfaces, so you can implement your own from scratch!</a:t>
            </a: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6T07:37:50Z</dcterms:created>
  <dc:creator>Jason Carreira</dc:creator>
  <dc:description/>
  <dc:language>en-US</dc:language>
  <cp:lastModifiedBy>Jason Carreira</cp:lastModifiedBy>
  <dcterms:modified xsi:type="dcterms:W3CDTF">2004-04-02T07:28:24Z</dcterms:modified>
  <cp:revision>17</cp:revision>
  <dc:subject/>
  <dc:title>WebWork 2.0</dc:title>
</cp:coreProperties>
</file>