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094EF-A0C1-4DFE-9403-D8F91A346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CFCBC-27B8-41C0-95AD-5C2F7256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550-8376-499D-87D7-C6ADA317F4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B1A37-B6A2-49A4-A501-31C1D887E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1520-BFB3-4941-84DD-82ECE052A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7078-00AD-46DF-BC1D-E641455F7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E3598-CF03-45A9-B253-3DB554BB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7AD6C-D02F-4C7D-B9AC-B481EABA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8F8A8-17E2-4097-90D8-F818D1E1A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5E56B-AFC8-4524-8CF1-8105A426A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D9B5A-EB54-4A2A-9A15-7C61B5506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B940-69F4-47A6-BE94-39F42A6E5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2BCE7-BCC8-4DC8-AEA3-9A7C659C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F0962-6F23-41AC-BE9B-3DE650FC5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2B8D7-B8DD-4EA1-A141-0192EF768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BBD24-4256-459F-89E2-FD674C77B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EE8B3-0DB7-4DBB-9B14-98432C8A0F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5B3D3B-6CEA-40D1-9FA9-BCC6F186C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5614B6-3BC2-41A7-A64E-D4E009FD1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1505D-2C63-41B7-8367-20AABE67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B1462-CB10-4919-9FD2-1B96B093A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76B955-2C22-43B7-B1A2-526FBE25A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ECAA-BF47-4908-85A0-EEEE721DC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46DFF-E961-432E-B4C0-16262B28D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997EC6-3BE7-4A31-BAE5-C3EBBFB96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DB03FB-EB60-4640-9DC8-434774A1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54E1C-4AAB-483A-90CC-79AE06263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BB606-BBD6-47A2-94B0-BBCBC85A7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D0284D-9E0A-4692-AB5C-823994C5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6CF7E3-0937-4B68-A119-B81E3EC30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6E8ADB-FB8F-4C37-9EBE-415530906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19F19-1002-4DD2-9834-2A219F7A5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9C703-3B8F-446A-AE66-8F7540EC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2154D-1286-4ED4-B32E-2A2897890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044546-955A-4743-8FD7-B07312B5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8DA95-1698-4D1E-A978-EFAB93B62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231AE-0080-4FAA-89B2-F50D9DD04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DE41F-7EAB-42EC-9BA7-A9AAC0A59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FDECD-36FE-45DA-94FF-4EDB4B41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FDAD8F-88DC-4AD5-8E7A-1B892221F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C31545-B820-48AA-9410-621C9870D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EB2B03-5B3A-4367-8A6A-8D09E2F0F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271AD-2A5A-45F3-BCE9-3395DAAF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5F00-FFA1-4867-8387-E60F6DA76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5E1F-4EE3-4E80-94CA-B491A1EDF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48D12-27D8-44A6-8231-6F60D1736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D063D-8AE4-42B3-836E-7305FA389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2BBA-FF71-4534-ADC1-61E0C1754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476ED-F41C-45DC-B51F-B3CEDB21A688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0FA85-DA49-43C6-BEAF-593FD094BED3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1F52-8009-4FD0-A4DD-4ED0E2F592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A4BED-2191-4452-99F2-F559039F0D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+ 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inning comb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k A. Light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blocks (cont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frameworks use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WR: Remote invocation service for Java &lt;-&gt; Java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jo: Language/server-agnostic JavaScript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styles of AJAX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M manipulation (DW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Partial pages" (Doj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Work provides three Dojo widge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Di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Anch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ndBut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v ta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tribu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Fre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ing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ror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wErrorTransport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nTop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Loa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div …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oll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 use of the @ww.div ta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ust set the href and the frequ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te: remote action returns 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@ww.url id=“url” value=“mailbox.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lboxId=“${mailboxId}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@ww.div href=“%{#url}” updateFreq=“2000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#list symbols as symbol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url id="url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lue="quote.action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mbol="${symbol}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div href="%{#url}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pdateFreq="900000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#list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class Quote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ring symbol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ck stock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public String execute() {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stock = StockMgr.lookup(symbol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return SUCCES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class="quote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${stock.symbol}: ${stock.price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tock quote example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dojoType="BindDiv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ref="quote.action?symbol=GOOG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fresh="900000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t's great, but what about older browse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the stock quote example, they would see nothing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Work and Dojo address this as much as pos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ning: Intelligent fallback can be difficult and sometimes impossible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div href="%{#url}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updateFreq="900000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@ww.action name="quote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ymbol="${symbol}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xecuteResult="true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@ww.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mpatibility (cont.)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dojoType="BindDiv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href="quote.action?symbol=GOOG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refresh="900000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div class="quote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GOOG: $82,000.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&lt;/div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WebWor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OpenSympho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e of web appl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esterday, today, and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Patri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JAX here to st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bed p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wo tag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ww.tabbed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@ww.pa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nel tag extends the div ta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m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tabbedPanel …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panel …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panel …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@ww.tabbedPanel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abbed Pan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4920" y="2590920"/>
            <a:ext cx="830556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tabbedPan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panel tabName="Details"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h1&gt;Stock details&lt;/h1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/@ww.pan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panel remote="tru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tabName="Pric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ref="%{#url}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tabbedPanel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opic-based ev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jo supports an event system, donated by the WebWork develop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ment, such as a div, may listen on multiple top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element, such as an href or tab header, may notify a top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ppens when the topic is notified is up to the receiving el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ortant: topics get you away from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cument.getElementXxx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: events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tree widget is actually one of the simplest AJAX techniques to bui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sume a model that provides a getChildren() call, such as Category.getChildren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s two building blocks: divs and link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1371600" y="1905120"/>
            <a:ext cx="6172200" cy="41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that gets a list of children when given a category 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mplate to render the t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mplate to kick off the initial tree dis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ction that return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avaScri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the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ial display can be done with the action tag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@ww.action name="listCategories.acti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uteResult="true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list categories as ca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if cat.children.size &gt; 0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assign icon="plus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els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#assign icon="square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#if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a notifyTopics="children_${cat.id}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ref="toggle.action?id=${cat.id}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img src="${icon}.gif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@ww.a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[EXAMPLE CONTINUED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#lis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url id="url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value="listCategories.action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id="${cat.id}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&lt;@ww.div id="children_${cat.id}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cssStyle="display: none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href="%{#url}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listenTopic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"children_${cat.id}"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ree widget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${childCount} &gt; 0 {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r div = $("children_${id}"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var style = div.style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if (style.display == "none")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yle.display = "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style.display = "none"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81440" cy="5867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5486400" y="304920"/>
            <a:ext cx="3276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ok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version ready “any day n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free copy will be given away at the end of the s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DWR; requires the DWR servlet install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e: remote calls return serialized objects (not HTML "partials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a very different style of AJ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nBlur ev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form action="createPerson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validate="true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@ww.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5082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itfall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ember: there is no silver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the end of the day, your application is still a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we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ite - don’t forget 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essive polling can lead to extreme load and/or thread starv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functionality, such as the back button and printing, can become difficult or confusing for the u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rowser incompatibility can lead to two versions of the same application (see gmai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ap 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t in WebWork feat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bbed pa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coming soon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mix of AJAX technologies - the space is very fragmented (much like Java web frameworks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AX = Asyncronous JavaScript and 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ogle m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ive group c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crosoft Outlook Web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use XmlHttp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tform compatibilit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 simple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look at the general flow of WebWork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imple example of the template library’s pow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ember: all the AJAX features of WebWork are built using the template libra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JAX is really just a bunch of JavaScript, HTML, and sloppy logic smashed together in a big train wreck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ean code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form action="createPerson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ethod="post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textfield label="Name"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="person.name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textfield label="Email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name="person.email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@ww.submit value="Create person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/@ww.form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s still really a train wre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form id="updatePerson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="updatePerson.action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thod="po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ab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Name: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d&gt;&lt;input id="updatePerson_person.name"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ame="person.name"/&gt;&lt;/t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ab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of AJAX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exactly does it mean to “ajaxify” your web applica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is a technique; not a technolo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tion: AJAX can be overuse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AJAX techniqu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bed pa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e widg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Building bl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core building blocks/tag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ww.d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ww.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@ww.sub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vs are where things “happ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nks and submit buttons can trigger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1T00:45:33Z</dcterms:created>
  <dc:creator>Patrick Lightbody</dc:creator>
  <dc:description/>
  <dc:language>en-US</dc:language>
  <cp:lastModifiedBy>Patrick Lightbody</cp:lastModifiedBy>
  <dcterms:modified xsi:type="dcterms:W3CDTF">2005-09-15T06:07:16Z</dcterms:modified>
  <cp:revision>43</cp:revision>
  <dc:subject/>
  <dc:title>WebWork + AJAX</dc:title>
</cp:coreProperties>
</file>