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5B0-2F91-41A0-AC19-A873B39D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F61-A147-4842-81B5-28C6AA4F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1C1-3E3D-42B1-A02E-2200DCD6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E4D-75EC-4801-8306-814D5DD7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7C4A-A3FA-4D33-AFC1-075E1FC6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025D-C964-47DB-AF3C-C8750C18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0914-E254-4137-B6CF-E17BECAF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7632-3DD9-4B9A-8DB6-F7F79A54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561D-F0E7-4077-91A6-5FC968C0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376D-4AEA-4D83-BAA1-16C83700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61C4-7B55-4871-9E10-FDF5D69B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EBA2-2170-4271-BA8C-A31BB52D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2CDA-58F6-4EE2-A910-8C383FE5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BA47-127D-4B53-8343-384BE933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F7DC-76A7-42BB-8F71-C478F015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08A7-8197-47F0-9B17-FF402FE0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955A-C131-4048-AEA9-83BA3E58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D4555-CD25-4330-9D00-E39F5487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8034A-3DF5-4939-BBF6-82E615CC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69605-B765-4DAB-8FCB-0694493D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6B981-3BCF-4978-8E79-DBCB242F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0C1F6-804F-485D-B1EB-08ED4161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759-F65E-40B9-A461-CF9F3113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653B3-E510-4A4E-B3F0-DF8B6858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BE2D0-DDBF-440F-9806-17E96A96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9BAA7-D4B7-4B5A-94D7-8995D98D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3B3DA-DB29-4C0B-9E13-0B0C3104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F1CC8-C03B-4102-B3BC-77F05557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06EDA-FC27-4354-838B-681CBC9B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62363-BAB1-46B6-8E38-2A4D1D15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C94B8-7FEA-4E94-97F4-C2B93D0D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22A64-344D-49B3-B06D-933A2504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DCD8F-AA34-4383-81BA-A40E3681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514-80AA-4D36-B070-8871FF3A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A17F0-7D24-4674-9C8F-785AAA27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04C4-2418-4009-AB06-F4BD4E2B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B242F-2ECD-4BB0-A863-77F1681E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EF70-942D-4D63-952E-5F42B0F2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C13D8-767B-40D6-B978-AC2B397A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7CCCB-0537-4E28-94B8-8C984E90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98B32-6DF2-41F1-9C1B-3DD1246E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50B40-411D-4E67-9643-4ACCB683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0EF1C-634F-4815-8DA4-CC2F380C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7B4-F8D7-4D3C-B441-AED7A92B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645-84EE-4673-9486-12A19522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5C5-C563-4EFD-A7D7-FA136EBB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984-75AB-4168-8619-2217EE6B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D10-3F28-4855-A32A-8064F13F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D634-CB38-44F3-8535-B05817907036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D21A-065B-42DB-ABFA-A1FD999948A8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9D9D-9360-4047-94F3-2A3D692CC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8056-EB5B-4A5E-AE16-13291B561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Work in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o Web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ick A. Light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let contain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starts with the FilterDispat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terDispatcher is responsible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n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ng static content (AJAX-related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version of control “request”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ing up the ActionContext (ThreadLo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.x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il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ilter-name&gt;webwork&lt;/filter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ilter-class&gt;….FilterDispatcher&lt;/filter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fil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ilter-mappin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ilter-name&gt;webwork&lt;/filter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url-pattern&gt;/*&lt;/url-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filter-mappin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listen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listener-class&gt;….LifecycleListener&lt;/listener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listen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otyp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quickest way to ge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nspired by AppFuse, Ruby on R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owered by a built-in Jetty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ally compiles your source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your started in three 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zip webwork-2.2.z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 -R webapps/starter webapps/java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-jar launcher.jar prototype:java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work.x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for actions, results, and inter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packages and package inheri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mapping to name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files can be included using &lt;includ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work.xml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xwork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nclude file="webwork-default.xml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package name="defaul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="webwork-default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ction name="listPeople" class="ListPeople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result&gt;listPeople.ftl&lt;/resul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ac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packag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xwork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ue st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xpressions work against the value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s are pushed on the stack before anything else hap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objects, such as those in an interator or action chaining, can be pushed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827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083440" y="5148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 conver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is not aware of data typ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Java 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Work helps by letting you work with your raw POJOs rather than typeless intermediate objects (form bea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with simple conversion (primitives) as well as complex (POJOs and colle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24120" y="-4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 conversion 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-&gt;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input name=“id”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-&gt; List&lt;String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input name=“name”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input name=“person.id”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input name=“people[0].id”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input name=“person.friends.name”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s validation rules from cor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rules available (required, regex, date range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s rules work with client-side validation (using AJAX -- see my other presentation for more in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Work: an OpenSymphon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Web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OpenSympho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Patri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to other web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late libr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form to create reusable UI wi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controls provided out of the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 of templates form “them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xhtml” theme is simple two-column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s can extend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x -&gt; xhtml -&gt;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508200" cy="4191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6248520" cy="2656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419720" y="762120"/>
            <a:ext cx="419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xhtml theme extends the simple theme and provides a standard two-column lay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s of intercep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very core features for Web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HTTP request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ing 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ing the valida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vide advanced functionali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vanced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ch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you glue together smaller actions to form more complex work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User -&gt; 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“wait”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for complex search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double click problems (without relying on JavaScrip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apping 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type is a great way to ge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 the templates; create your own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conversion bridges the gap between HTTP and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validation framework (especially with AJA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 interceptors when appropr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486400" y="304920"/>
            <a:ext cx="3276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ok now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version ready “any day no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questions - get a free cop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6814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w”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 has never been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ion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: WebWork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built upon the Command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PO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OGNL for expression language and type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n advanced valida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an extensible widge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many view technologies: JSP, FreeMarker, Velocity, JasperReports, XSLT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e conce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key pie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(POJOs, Action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form beans”: the action is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stack allows loose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eptors: “AOP l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6880" y="263520"/>
            <a:ext cx="84963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servlet (2.3)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“prototype” quick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methods are compa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in “prototype” and deploy in a standard servlet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00:05Z</dcterms:created>
  <dc:creator>Patrick Lightbody</dc:creator>
  <dc:description/>
  <dc:language>en-US</dc:language>
  <cp:lastModifiedBy>Patrick Lightbody</cp:lastModifiedBy>
  <dcterms:modified xsi:type="dcterms:W3CDTF">2005-09-14T06:05:45Z</dcterms:modified>
  <cp:revision>12</cp:revision>
  <dc:subject/>
  <dc:title>WebWork in Action</dc:title>
</cp:coreProperties>
</file>