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A04-11EA-437B-AA03-D7A6F2D0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B7D-BA41-41DC-87BD-188853F3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E69-ECD8-4770-A765-AC170942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6ED-9FE9-4B04-B318-FDB9AB81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232C-CA21-4965-B4E6-6989B3FA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6AE9-7CDF-4368-BDA2-3B6CF489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E186-E6F4-440F-98FE-4E5BE87F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5A5B-6588-40B4-8D35-EA4D1F15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6238-A8A5-439B-BBF8-2F4C97CC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B04B-475A-41CD-B6D7-244A305D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60A4-7665-4E1C-AFEA-3A6DDC28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AE9-A4A7-4528-B9F6-53519F2C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E161-CACE-4F65-B90C-B93A33A1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E08C-C2C7-4EC0-A51D-31F45E5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06BA-693F-4232-98BF-E4CA93D6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F56D-FFE9-44B0-8FB0-BC22DDEC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331A-A083-415C-814D-8A289815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C6B68-F66C-465E-B9A7-3746BF5D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CBC0-F988-465E-B749-F3D8254A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0DC1-0016-48DB-93CE-1127B76A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00958-8BF3-4B8B-9460-A748D920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FE20-ED29-463F-BCC6-BCDC1F02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9C8-97D3-4592-BD02-AB7C83FE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E151-AA6C-4C1F-B206-83120E55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9916-4261-45F8-BF2E-1787800A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C06C9-0E15-48BB-9822-17828E98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1355-4A90-4B0C-B1A9-A9A847B6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0426-360F-412E-9E25-5C9EF38A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DEDFB-4CE7-4461-A95F-54165944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FE6D-4C1E-4C29-9F6E-044C3D40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6AF53-DCD5-44BC-B645-2E291B61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549D2-F71C-42F7-8FFE-F81454AC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E04AB-87D1-48C7-A208-4C713830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5D7-62EF-466B-B366-3E4D804D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CDDE-D9E7-455F-9D04-94DB5D06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53E16-77E6-445D-899D-808CDE2E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5C80-B183-4F8E-9698-66A680EF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CDBCF-D856-4BFF-A2A2-7E2AC34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61AF8-2A95-401D-ADDA-686F6F8E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2B05-02C9-418D-8E75-BB0574C2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16F2E-C8CB-4968-B495-F487C58B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910A-7499-4EBC-B7BB-368280B4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AF03-172E-4C1C-BD3B-6D588BA0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064-6BEA-4FA0-8587-A559AC54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C5E-DFCC-4698-A3C0-050349FF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1B9-84BB-4BC6-9B00-190B490B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AEB-9D3B-41F0-A3B8-F2AA967E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C6D-19A5-4F99-8EC8-B7859741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E99B-169E-44CF-9D22-FB6F947D5892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F31B-214A-41D5-AB78-10F5677E46E5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42B5-68AB-48E2-9C75-F93087766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933-9335-4D64-B4AA-32E722672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Work + AJ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inning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ick A. Light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ilding blocks (co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ramework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R: Remote invocation service for Java &lt;-&gt; 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jo: Language/server-agnostic JavaScrip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yles of AJ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 manipulation (DW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artial pages" (Doj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Work provides three Dojo widge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v ta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Fr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rrorTransport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@ww.div …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use of the @ww.div ta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set the href and the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remote action returns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@ww.url id=“url” value=“mailbox.a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boxId=“${mailboxId}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@ww.div href=“%{#url}” updateFreq=“2000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ck quot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#list symbols as symbol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@ww.url id="url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alue="quote.actio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mbol="${symbol}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@ww.div href="%{#url}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updateFreq="900000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#lis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ck quote exampl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class Quot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symbo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ck stoc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String execute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ck = StockMgr.lookup(symbo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 SUCC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ck quote exampl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div class="quote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${stock.symbol}: ${stock.price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ck quote exampl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div dojoType="BindDiv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ref="quote.action?symbol=GOOG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fresh="900000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t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's great, but what about older brow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stock quote example, they would see not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Work and Dojo address this as much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: Intelligent fallback can be difficult and sometimes imposs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t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@ww.div href="%{#url}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updateFreq="900000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@ww.action name="quot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mbol="${symbol}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xecuteResult="true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@ww.div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tibility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div dojoType="BindDiv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ref="quote.action?symbol=GOOG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fresh="900000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div class="quote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OOG: $82,000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eb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penSymph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of web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terday, today, and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Patri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JAX here to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bed pa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a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ww.tabbed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ww.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nel tag extends the div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@ww.tabbedPanel …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@ww.panel …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@ww.panel …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@ww.tabbedPane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bed Pa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83055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tabbedPane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panel tabName="Details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h1&gt;Stock details&lt;/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@ww.pane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panel remote="tru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bName="Pric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ref="%{#url}"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tabbedPane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ic-based ev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jo supports an event system, donated by the WebWork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lement, such as a div, may listen on multipl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lement, such as an href or tab header, may notify a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topic is notified is up to the receiving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 topics get you away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cument.getElementXxx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: events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ee widget is actually one of the simplest AJAX techniques to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 model that provides a getChildren() call, such as Category.getChildre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s two building blocks: divs and li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1722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ion that gets a list of children when given a category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mplate to render th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mplate to kick off the initial tree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ion that retur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vaScri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play can be done with the action t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@ww.action name="listCategories.acti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Result="true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#list categories as ca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#if cat.children.size &gt; 0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#assign icon="plus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#els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#assign icon="square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#if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a notifyTopics="children_${cat.id}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ref="toggle.action?id=${cat.id}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mg src="${icon}.gif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@ww.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[EXAMPLE CONTINUE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#lis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url id="url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="listCategories.actio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="${cat.id}"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div id="children_${cat.id}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ssStyle="display: non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ref="%{#url}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enTopic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children_${cat.id}"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 (${childCount} &gt; 0 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ar div = $("children_${id}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ar style = div.sty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 (style.display == "none"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yle.display = "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yle.display = "none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681440" cy="5867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486400" y="304920"/>
            <a:ext cx="3276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ok now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version ready “any day n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ee copy will be given away at the end of the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DWR; requires the DWR servlet inst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remote calls return serialized objects (not HTML "partials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very different style of AJ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nBlur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form action="createPers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idate="true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@ww.for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508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tfa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: there is no silver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of the day, your application is still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te - don’t forget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ive polling can lead to extreme load and/or thread sta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unctionality, such as the back button and printing, can become difficult or confusing for the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r incompatibility can lead to two versions of the same application (see g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ap 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 WebWork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bed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ing so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 of AJAX technologies - the space is very fragmented (much like Java web framework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J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AX = Asyncronous JavaScript and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ve group 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Outlook Web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use XmlHttp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compati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imple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at the general flow of WebWork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example of the template library’s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all the AJAX features of WebWork are built using the templat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JAX is really just a bunch of JavaScript, HTML, and sloppy logic smashed together in a big train wre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ean cod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form action="createPerson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thod="post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textfield label="Name"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="person.name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textfield label="Email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="person.email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submit value="Create person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@ww.for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still really a train wre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id="updatePers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="updatePerson.action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thod="po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ab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Name: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&lt;input id="updatePerson_person.nam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"person.name"/&gt;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s of AJ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xactly does it mean to “ajaxify” your web ap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is a technique; not a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tion: AJAX can be overus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JAX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be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wi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ilding bl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re building blocks/ta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ww.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ww.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ww.sub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s are where things “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and submit buttons can trigger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00:45:33Z</dcterms:created>
  <dc:creator>Patrick Lightbody</dc:creator>
  <dc:description/>
  <dc:language>en-US</dc:language>
  <cp:lastModifiedBy>Patrick Lightbody</cp:lastModifiedBy>
  <dcterms:modified xsi:type="dcterms:W3CDTF">2005-09-15T06:07:16Z</dcterms:modified>
  <cp:revision>43</cp:revision>
  <dc:subject/>
  <dc:title>WebWork + AJAX</dc:title>
</cp:coreProperties>
</file>