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57EE-67C7-4EBC-B577-DE50BBF26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E3C5-361C-48A7-B5CB-1202D2333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D1CB-017D-419C-8B1D-617090064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39F2-5A5F-480F-B2B8-C2751DC65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2E69F-1287-47FC-A99D-0B06B878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8498F-28A0-4F49-B4A6-B2FDE09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96DE5-AAAE-4F69-8999-2E40392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644A2-A099-408B-808B-29C66825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04E03-EE24-4F9F-9DE3-E14FD0DB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79B59-D133-462F-94CC-67493660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F546-BD5D-4F0B-9EC3-CD24BA7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A949-3324-4123-B844-FE60985C1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CE72-67DF-4499-A9AA-B1B5AA12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17544-B732-466D-A3BD-4D94330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74D53-D7EB-4911-AA90-321F0022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259BF-58AA-48F4-954F-DA49AE6B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BFAE6-D6B7-40C3-8B07-2F480588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73AE-CA14-4D4C-826D-B215C8EDA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5109-A491-4708-8F3D-B7F1E86DC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46B7-A1AA-4AFB-A0C9-AF8E00257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905E-2E3B-454A-B317-FF21BED62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3647-F2AE-46D6-9AEC-8F318B705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2A5A-7DBA-4448-BAEC-B86818163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B8B5-52F2-4ADC-9EF4-4D25470DE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DCF0-3FE9-4BCE-A38F-BAADBA6C0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008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100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1008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1676520" cy="54288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172200" y="6248520"/>
            <a:ext cx="28195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100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1008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1008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EB1-6878-410E-8E33-2812494150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0D9F-6C1C-4145-A80D-314C04AE0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10084a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pensymphony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Lucida Sans"/>
              </a:rPr>
              <a:t>WebWork </a:t>
            </a:r>
            <a:r>
              <a:rPr b="1" lang="en-US" sz="5000" spc="-1" strike="noStrike">
                <a:solidFill>
                  <a:srgbClr val="ffffff"/>
                </a:solidFill>
                <a:latin typeface="Lucida Sans"/>
              </a:rPr>
              <a:t>2.0</a:t>
            </a:r>
            <a:endParaRPr b="0" lang="en-US" sz="5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Strutting the OpenSymphony Way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5276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“Hello World” examp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ple require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ake the users name and generate a hello message personalized for th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 user enters a birthday, calculate how long until their birthda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how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mplementing an A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nfiguring WebWor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Using the tag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ype conver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rror mess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elloWorldAction.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class HelloWorldAction extends ActionSupport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ivate User user = new User(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User getUser() { return user; 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int getDaysTillNextBirthday() { … 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execute() throws Exception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tring name = getUser().getName(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f ((name == null) || (name.trim().equals(""))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addFieldError("user.name", "You must enter a name."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f (hasErrors()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turn INPU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turn SUCCESS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er.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class User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vate Date birthday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String getName() { return name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void setName(String name) { this.name = name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Date getBirthday() { return birthday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void setBirthday(Date birthday) { this.birthday = birthday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orm.jsp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%@ taglib uri= "webwork" prefix= "webwork" %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ead&gt;&lt;title&gt;Hello World Example&lt;/title&gt;&lt;/head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form action="'HelloWorld.action'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textfield label="'Name'" name="'user.name'“ value="user.name"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textfield label="'Birthday'" name="'user.birthday'" value="user.birthday"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submit value="'Say Hello'"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webwork:form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ccess.jsp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%@ taglib uri= "webwork" prefix= "webwork" %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ead&gt;&lt;title&gt;Hello &lt;webwork:property value="user.name"/&gt;&lt;/title&gt;&lt;/head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ello &lt;webwork:property value="user.name"/&gt;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if test="user.birthday != null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property value="daysTillNextBirthday"/&gt; days till your next birthday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webwork:if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Xwork.xml for Hello World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xwork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clude file="webwork-default.xml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default" extends="webwork-default" abstract="true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main" class="com.opensymphony.xwork.ActionSupport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field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ex1" extends="default" namespace="/ex1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HelloWorld" class="example.ex1.HelloWorldAction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field/success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input" type="dispatcher"&gt;/field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xwork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nit testing Action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XWork / WebWork shines in testabil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have no web dependencies, so you don’t have to set up mocks, etc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ways of testing Action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st create a new instance, set some properties, and execu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e the framework directly in your tests to execute it with the Interceptors, 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elloWorldActionTe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public void testFieldErrorAddedWhenNoUserName(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throws Exception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elloWorldAction action = new HelloWorldAction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Equals(Action.INPUT, action.execute(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True(action.hasFieldErrors(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Map fieldErrors = action.getFieldErrors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True(fieldErrors.containsKey("user.name"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ist userNameErrors = (List) fieldErrors.get("user.name"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Equals(1, userNameErrors.size(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Equals("You must enter a name.",userNameErrors.get(0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otes on the examp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ose page model from many objects using expression languag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I tags automatically show field error messages next to the form fiel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turn code from Action determines which page to displ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ch of the “magic” is in the interceptors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terceptors: Domain AOP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752480"/>
          <a:ext cx="287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287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95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ceptors allow custom code into the call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ch of the core functionality of XWork and WebWork is implemented as Intercepto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 custom Intercepto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Symphon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open source project encompassing quality enterprise Java compon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well known quality compon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bWork / XWor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teMes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SCach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SUs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SWorkflow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ttp://www.opensymphony.co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838080"/>
            <a:ext cx="30384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imerInterceptor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merInterceptor is the simplest Intercepto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st times the execution of the A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public String intercept(ActionInvocation invocation) throws Exception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f (log.isInfoEnabled())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ong startTime = System.currentTimeMillis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String result = invocation.invoke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ong executionTime = System.currentTimeMillis() - startTime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String namespace = invocation.getProxy().getNamespace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LoggingIntercepto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gingInterceptor extends the Around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oundInterceptor provides callbacks for before() and after() the Action is execu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class LoggingInterceptor extends AroundInterceptor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otected void after(ActionInvocation invocation, String result) throws Exception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logMessage(invocation, FINISH_MESSAGE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otected void before(ActionInvocation invocation) throws Exception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logMessage(invocation, START_MESSAGE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ther Intercepto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tting Parame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meter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aticParameter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ining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versionError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fining Workflow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faultWorkflow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epare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rvletConfig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eventing duplicate pos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 types of token intercep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terceptor Stack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terceptors can be grouped into named Interceptor Sta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 defined in webwork-default.xm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efaultSt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stack name="defaultStack"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static-params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params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conversionError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interceptor-stack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alidationWorkflowStack    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stack name="validationWorkflowStack"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validation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workflow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interceptor-stack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tacks can be built of other stacks and intercep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odel-Driven vs. Field-Drive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 types of Actions possibl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del-driv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tion has methods returning your model classes (myAction.getUser()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elds in the view are fields of your mod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iews refer directly to your model (property=‘user.name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cellent because it allows model reu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eld-driv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tion has fields of its own, which are fields in the vie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ecute() collates fields and interacts with the mod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iews refer to action fields (property=‘daysTillNextBirthday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where form is not parallel to mod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s we can see in our Action, the two can be mi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odelDriven Interfa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Work / WebWork also supports model-driven Actions more directl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ModelDriven Interface has one method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ublic Object getModel(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perties of the model will be directly available, i.e. “name” instead of “user.name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pplies to UI tags, form field names, 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king HelloWorld ModelDrive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ake the class implement ModelDrive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nge getUser() to getModel(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class HelloWorldAction extends ActionSupport 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mplements ModelDriven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Object 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getModel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user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Driven: Changes to the JS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nge “user.name”, etc. to just “name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 form.js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textfield label="'Name'" name="'name'" value="name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textfield label="'Birthday'" name="'birthday'" value="birthday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 success.js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Hello &lt;webwork:property value="name"/&gt;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if test="birthday != null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property value="daysTillNextBirthday"/&gt; days till your next birthda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webwork:if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pplying the ModelDrivenIntercep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xwork.xm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ex2" extends="webwork-default" namespace="/ex2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main" class="com.opensymphony.xwork.ActionSupport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model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HelloWorld" class="example.ex2.HelloWorldAction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&lt;interceptor-ref name="model-driven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/model/success.jsp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input" type="dispatcher"&gt;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/model/form.jsp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oking at the ModelIntercep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14600" y="1752480"/>
          <a:ext cx="437832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752480"/>
                    <a:ext cx="43783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ModelInterceptor pushes the Model onto the Value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is WebWork 2.0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 second generation of WebWor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web MVC framewor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wrapper on top of a generic Command Pattern implementation (XWork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small but powerful tag libra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is the ValueStack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ValueStack builds a stack of objec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bjects are used to find property valu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ValueStack allows the expression language to find property values across multiple objec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486400" y="1371600"/>
          <a:ext cx="2581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371600"/>
                    <a:ext cx="25812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ow is the ValueStack used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Action instance is always pushed onto the Value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odel is pushed on by the Model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UI tags use it to push values on during their scope and evaluate express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&lt;ww:iterator&gt; tag pushes the current item onto the st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&lt;ww:bean&gt; tag pushes a bean instance 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&lt;ww:property&gt; tag evaluates an expression against the ValueSt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tag attribute values are evaluated against the stack when being set onto the tag instan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OGNL expression langu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or expressions WW uses OGNL (Object Graph Navigation Languag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 expression and binding language for getting and setting properties of Java objec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rmally the same expression is used for both getting and setting the value of a propert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to learn, yet powerfu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crementally compiled expressions - fast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mbedded everywhere – views, ValueStack, *.xm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dependently run Open Source project - http://www.ognl.or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GNL sampl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76520"/>
          <a:ext cx="8229600" cy="414468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OGN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ser.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getUser().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ser.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getUser().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tem.categories[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rst element of Categories col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@com.example.Test@foo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lls the static foo() method on the com.example.Tes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name in {null,”fred”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True if name is null or “fre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tegories.{nam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lls getName() on each Category in the collection, returning a new collection (proje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XWork Validation Framewor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parates validation from Action cla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ws for different validations in different contexts for the same obj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s hooks for localized validation messag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types of validators, Object level and field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elloWorldAction-validation.xm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validators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field name="user.name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field-validator type="requiredstring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message&gt;You must enter a name.&lt;/message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field-validato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field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validators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alidation file in the same package as the cla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fines one field validator and the error message to add if it fai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undled Validato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752480"/>
          <a:ext cx="8229600" cy="4270320"/>
        </p:xfrm>
        <a:graphic>
          <a:graphicData uri="http://schemas.openxmlformats.org/drawingml/2006/table">
            <a:tbl>
              <a:tblPr/>
              <a:tblGrid>
                <a:gridCol w="2116080"/>
                <a:gridCol w="6113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quired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 != 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quired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 != null &amp;&amp; string.length() &gt;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nt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nteger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Date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Date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 emai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 UR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xpression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Any OGNL expression evaluates to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g. pet.name != “do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Allows you to create very powerful validations using just XML and your existing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hanges to xwork.xm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ex3" extends="default" namespace="/ex3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HelloWorld" class="example.ex3.HelloWorldAction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validationWorkflowStack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field/success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input" type="dispatcher"&gt;/field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alidationWorkflowStack is from webwork-default.xm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stack name="validationWorkflowStack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validation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workflow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interceptor-stack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hanges to the Ac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execute() method can just return SUCC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public String execute() throws Exception { return SUCCESS;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validation of the “user.name” property is handled by the validation intercepto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workflow interceptor returns INPUT if there are any errors added to the A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is Inversion of Control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oC removes the onus of managing components from your business logic into a containe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ntainer manages lifecycles and dependencies between component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JB is IoC, but with a static list of servic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curity, persistence and transa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akarta Avalon, Spring’s BeanFactory, and PicoContainer are all IoC contain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does WebWork use XWork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Work is a generic command pattern implemen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bWork translates between the web world and XWor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565600" y="1754280"/>
          <a:ext cx="220356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5600" y="1754280"/>
                    <a:ext cx="220356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dvantages of Io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motes simplicity and decoupl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mponents describe themselv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pendencies are discovered automaticall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heres to Law of Demet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sses coupled to only what they u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courages smaller responsibility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ads to better interface/impl separ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it tests become far simpl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y become ‘mini-containers’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oC in XWork / WebWork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Work provides a simple IoC contain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bWork provides a hierarchy of containers mapped to web scop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XWork A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onents specify only which services they requi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ia interfaces (eg ShoppingCartAwar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figuration file defines component implementations and scop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ShoppingCart Servi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hoppingCart service - provides a user’s cart (session scop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ppingCartAware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interface ShoppingCartAware 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setShoppingCart(ShoppingCart cart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ppingCart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interface ShoppingCart 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addPet(Pet pet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removePet(Pet pet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boolean isEmpty(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int size(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List getPets(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PetStore Servi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PetStore service - provides management of our pet inventory (application scop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tStoreAware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etStoreAware 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tPetStore(PetStore store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tStore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Store {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avePet(Pet pet);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movePet(Pet pet);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List getPets();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 getPet(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long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d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service client Ac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clas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ToCart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implement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ction,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etStoreAware, ShoppingCartAware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{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setPetStore(PetStore ps) { this.petStore = ps; 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setShoppingCart(ShoppingCart c) { 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this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.cart = c; 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tring execute()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throw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xception {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cart ==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null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|| petId ==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RROR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et pet = petStore.getPet(petId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cart.addPet(pet);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UCCESS; 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onfiguring Servic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services are configured in components.xml like s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omponents&g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scope&gt;application&lt;/scop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lass&gt;org.petsoar.pets.DefaultPetStore&lt;/class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enabler&gt;org.petsoar.pets.PetStoreAware&lt;/enabler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scope&gt;session&lt;/scop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lass&gt;org.petsoar.cart.SimpleShoppingCart&lt;/class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enabler&gt;org.petsoar.cart.ShoppingCartAware&lt;/enabler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components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chieving reuse with WebWor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bWork provides many opportunities for modularizing and reusing compon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ke Interceptors to do work before and after the Action is execu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services which are applied via I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ction bas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reusable UI compon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reusable application modu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usable UI component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WebWork UI tags are implemented using Velocity templa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You can provide your own templates for the tag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&lt;ww:component&gt; tag lets you use any templa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date picker templ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rror message templ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I tag rende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UI tags use Velocity to actually render HTML fragments, eg in your JSP view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textfield label="Name" name="project.name" /&gt;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nders via textfield.vm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header.vm" 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input type="text" name="${tag.Name}"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value="$!{tag.ActualValue}"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if ($tag.Size &gt; 0) size="${tag.Size}"#end /&gt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footer.vm" 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I tag templat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ebWork comes with default UI templat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how the label beside the form fiel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how the field errors above the form fiel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textfield </a:t>
            </a:r>
            <a:r>
              <a:rPr b="0" lang="en-US" sz="1800" spc="-1" strike="noStrike">
                <a:solidFill>
                  <a:srgbClr val="009900"/>
                </a:solidFill>
                <a:latin typeface="Monaco"/>
              </a:rPr>
              <a:t>label=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"'Name'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"'user.name'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Monaco"/>
              </a:rPr>
              <a:t>value=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"user.name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nders as (with an error messag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24080" y="5105520"/>
            <a:ext cx="266724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does XWork provide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mmand pattern implemen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tions are command objects in XWork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s advanced featur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tercep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cludes setting parameters, workflow, et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cludes one for chaining to another A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ple IoC (or “Dependency Injection) contain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werful expression language – OGN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lexible type convers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tadata driven validation framewor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ustom UI component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W allows you to easily create custom UI compon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quires writing a single Velocity templa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cellent for componentizing view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: a date picker to allow users to enter dates into text fields easily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custom date picker (from Jira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ere’s the  form field and popup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5638680" cy="554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819520" y="3124080"/>
            <a:ext cx="313344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05720" y="2590920"/>
            <a:ext cx="1218960" cy="2057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92400 h 2057400"/>
              <a:gd name="textAreaBottom" fmla="*/ 1459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38" stAng="-5400000" swAng="5400000"/>
                <a:lnTo>
                  <a:pt x="21600" y="11202"/>
                </a:lnTo>
                <a:arcTo wR="21600" hR="8238" stAng="0" swAng="3172593"/>
                <a:lnTo>
                  <a:pt x="5991" y="21277"/>
                </a:lnTo>
                <a:lnTo>
                  <a:pt x="0" y="17958"/>
                </a:lnTo>
                <a:lnTo>
                  <a:pt x="5991" y="13993"/>
                </a:lnTo>
                <a:lnTo>
                  <a:pt x="5991" y="16153"/>
                </a:lnTo>
                <a:arcTo wR="21600" hR="8238" stAng="3172593" swAng="-2933201"/>
                <a:lnTo>
                  <a:pt x="21248" y="9720"/>
                </a:lnTo>
                <a:arcTo wR="21600" hR="8238" stAng="-239392" swAng="-5160608"/>
                <a:close/>
              </a:path>
              <a:path fill="darkenLess" w="21600" h="21600">
                <a:moveTo>
                  <a:pt x="0" y="0"/>
                </a:moveTo>
                <a:arcTo wR="21600" hR="8238" stAng="-5400000" swAng="5400000"/>
                <a:lnTo>
                  <a:pt x="21600" y="11202"/>
                </a:lnTo>
                <a:arcTo wR="21600" hR="8238" stAng="0" swAng="-239392"/>
                <a:lnTo>
                  <a:pt x="21248" y="9720"/>
                </a:lnTo>
                <a:arcTo wR="21600" hR="8238" stAng="-239392" swAng="-5160608"/>
                <a:close/>
              </a:path>
            </a:pathLst>
          </a:cu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the custom UI compon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iew (addpet.jsp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component label="Created After" template="datepicker.vm" name="pet.created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param name="'formname'" value="'editform'" 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webwork:component&gt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mponent template (datepicker.v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header.vm" 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script language="JavaScript" src="/decorators/datepicker.js" 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input type="text" name="${tag.Name}" value="$!{tag.ActualValue}" /&gt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a href="javascript:show_calendar('${tag.Params.get("formname")}', '${tag.Name }');"&gt;&lt;img src="/images/icons/cal.gif"&gt;&lt;/a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footer.vm" 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usable application modul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You can build reusable modules which can be included in any WebWork ap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work.xml include allows you to merge in external configur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elocity allows you to include both Actions and templates in a jar fi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ample: The WebWork configuration brows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dding the Config Browser to your WebWork app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 the webwork-config-browser.jar (12 Kb) to your WEB-INF/li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 an include in your xwork.xm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xwork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include file="webwork-default.xml"/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include file="config-browser.xml"/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/xwork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at’s it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Config Browser in ac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57913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does WebWork add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apter for HTTP request / respon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gration of Session / Application scop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rvletDispatcher translates HTTP requests into Action execu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quest parameters passed to A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ults for servlet redirect &amp; dispatch, Velocity, Freemarker, JasperReports, XSLT, 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sults: The “View” in MV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lts are what happens after an 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isplaying a page -&gt; JSP / Velocity / FreeMarker / JasperReports / XSL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ining to another 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dd your ow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mail? Command line output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are command objec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should be simple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are not tied to any web cla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 interface has only one method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interface Action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execute() </a:t>
            </a: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throws Exception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Helvetica-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ctionSuppor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tions are only required to implement the Action interfa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tionSupport is a useful base clas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mplements A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vides error message suppor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eld and Action level messag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essages automatically used by UI t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vides message international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essage bundle for each Ac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ooks up class hierarch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I tags use internationalization support to find tex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features based on Interfaces, so you can implement your own from scratch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7:37:50Z</dcterms:created>
  <dc:creator>Jason Carreira</dc:creator>
  <dc:description/>
  <dc:language>en-US</dc:language>
  <cp:lastModifiedBy>Jason Carreira</cp:lastModifiedBy>
  <dcterms:modified xsi:type="dcterms:W3CDTF">2004-04-02T07:28:24Z</dcterms:modified>
  <cp:revision>17</cp:revision>
  <dc:subject/>
  <dc:title>WebWork 2.0</dc:title>
</cp:coreProperties>
</file>